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6.png" ContentType="image/png"/>
  <Override PartName="/ppt/media/image4.jpeg" ContentType="image/jpeg"/>
  <Override PartName="/ppt/media/image5.emf" ContentType="image/x-e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1C7-0F66-4AE6-847D-5E9C6115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810-2A09-4D5B-BC77-CFD460A7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CFB-6276-445B-BB33-7A57CE35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968-6BA2-4704-B7A9-61BE11A7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7C32-FCF1-4E69-9FBD-D2095B31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456C-6B5A-4CEF-95FA-55A79633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F54E-849F-4FA9-9410-83567AC3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BBD9-587C-4DC5-BB52-1DB2C9AD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B1D6-4903-44A5-AA56-1829305F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DA3D-F0EA-4E05-A020-EF5324C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2310-8A97-49DA-9A97-25E9AFCB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989-058C-4696-A6BA-F00ED963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7668-5127-44DC-80DD-B2E7DFC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1627-1854-4CED-B881-493F267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8066-8B92-4174-A1CE-A3E2BA00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8D9F-0000-4F3F-BF87-9DF88645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76F5-8798-4EFA-9B45-AF381C62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8BE-29C3-49AF-A86E-2F5FC243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4FB-A67B-4642-AAFE-3859E491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41F-E2F1-4617-A878-CDA7534C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46D-DFF9-4D5D-ABB5-6BD031AA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469-9D2B-4907-BA6C-8B481834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A70-1C33-4B55-A5A8-2B9A15A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078-6C96-49C1-9B27-AFA13C30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463B-1E11-4FA0-9A42-6ACD6FC023AA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E51-231F-4B61-B7E0-6A7A84A63EE3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e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ヒラギノ角ゴ Pro W3"/>
              </a:rPr>
              <a:t>_x0010_The Menshevik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0" t="0" r="0" b="600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1720" y="3505320"/>
            <a:ext cx="689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c1080a"/>
                </a:solidFill>
                <a:uFillTx/>
                <a:latin typeface="Harrington"/>
              </a:rPr>
              <a:t>The Mensheviks</a:t>
            </a:r>
            <a:endParaRPr b="0" lang="en-US" sz="66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334120"/>
            <a:ext cx="394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Harrington"/>
              </a:rPr>
              <a:t>The 1905 revolution</a:t>
            </a:r>
            <a:endParaRPr b="0" lang="en-US" sz="3200" spc="-1" strike="noStrike">
              <a:solidFill>
                <a:srgbClr val="ffc118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96800" y="609120"/>
            <a:ext cx="45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Split in 1903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437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A disagreement regarding membership marked a split within the Russian Social Democratic Labor Party in 1903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Two groups formed: 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the Mensheviks and the Bolsheviks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Both wanted to achieve the same aim: to overthrow the current government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2590920" cy="156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4495680"/>
            <a:ext cx="29718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How” and “Who” was the difference between the two groups</a:t>
            </a: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42900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118"/>
                </a:solidFill>
                <a:latin typeface="Trebuchet MS"/>
              </a:rPr>
              <a:t>Meeting of the Russian Social Democratic Labor Party</a:t>
            </a:r>
            <a:endParaRPr b="0" lang="en-US" sz="1600" spc="-1" strike="noStrike">
              <a:solidFill>
                <a:srgbClr val="ffc118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96800" y="609120"/>
            <a:ext cx="45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Menshevik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3400" y="198108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Mensheviks” means minority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Believed that Socialism could only be achieved through an evolutionary path rather than revolutionary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Bourgeois Revolution &gt;&gt; working class and peasantry revolt against bourgeois &gt;&gt; establish socialism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Both Marx and the Mensheviks recognized the need for a Capitalist revolution in order to achieve socialism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84768" t="95213" r="169536" b="95213"/>
          <a:stretch/>
        </p:blipFill>
        <p:spPr>
          <a:xfrm rot="701400">
            <a:off x="2514240" y="685800"/>
            <a:ext cx="4311720" cy="5479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240" y="15235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Wanted to become a huge political party and work with other socialist parties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Wanted a more broad-based party that would include full-tie revolutionaries and less active supporters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19320" y="220932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More full-tie revolutionaries compared to active supporter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Mensheviks were skilled philosophers but failed to carry  things out at a grass roots level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279540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55400" y="55627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118"/>
                </a:solidFill>
                <a:latin typeface="Arial"/>
              </a:rPr>
              <a:t>Julius Martov</a:t>
            </a:r>
            <a:endParaRPr b="0" lang="en-US" sz="18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2193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First leader was Julius Martov</a:t>
            </a:r>
            <a:endParaRPr b="0" lang="en-US" sz="2800" spc="-1" strike="noStrike">
              <a:solidFill>
                <a:srgbClr val="ffc118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248160" cy="4138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96800" y="609120"/>
            <a:ext cx="45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revolution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Played active roles in the Russian Revolution of 1905 and in the St. Petersburg soviet, but were divided over World War 1 and later the Russian Revolution of 1917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During the 1905-07 revolution, the Mensheviks opposed the working class and peasants  who were in 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open revolt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742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118"/>
                </a:solidFill>
                <a:latin typeface="Trebuchet MS"/>
              </a:rPr>
              <a:t>THE END</a:t>
            </a:r>
            <a:endParaRPr b="0" lang="en-US" sz="7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6:43:09Z</dcterms:created>
  <dc:creator>apple apple</dc:creator>
  <dc:description/>
  <dc:language>en-US</dc:language>
  <cp:lastModifiedBy>Tina Kanagaratnam</cp:lastModifiedBy>
  <dcterms:modified xsi:type="dcterms:W3CDTF">2007-09-14T04:55:18Z</dcterms:modified>
  <cp:revision>9</cp:revision>
  <dc:subject/>
  <dc:title>_x0010_The Mensheviks</dc:title>
</cp:coreProperties>
</file>